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E3A-9542-46BC-8BF9-65C5705B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88D-A176-4121-80CD-0EDF1408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573-C54D-4D71-9319-180BA729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45C-E30F-4EF0-9C2C-6A6D7B50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72A-D13C-48E5-8854-6A38F567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EE8-3E57-4680-9B11-DB4D79DA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F39-6D91-4E28-A996-B44F0EB8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245-B89F-499A-8441-4C68D45B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BF8-BB22-4166-AEB2-10ACA232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8BA-C518-4ECE-AB2F-AF982B2D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A22-6DFC-4DC3-8EE8-8690465D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B0E-94D3-431D-BC44-6F6B238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4EB7-28DD-44F6-A4AE-0F58992C6D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1532;2&#31456;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isual C++6.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例教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第2章   文档和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对话框与控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菜单、快捷键和控制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图形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文件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用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异常处理和诊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多线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13:24:32Z</dcterms:created>
  <dc:creator>YangGuoxing</dc:creator>
  <dc:description/>
  <dc:language>en-US</dc:language>
  <cp:lastModifiedBy>YangGuoxing</cp:lastModifiedBy>
  <dcterms:modified xsi:type="dcterms:W3CDTF">2001-07-11T15:25:04Z</dcterms:modified>
  <cp:revision>2</cp:revision>
  <dc:subject/>
  <dc:title>Visual C++6.0实例教程</dc:title>
</cp:coreProperties>
</file>